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328D-030C-40BE-9277-ABEA96E6C3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8E8A-B9EB-4E9F-B3E6-A23BB98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235E-CE2A-4EAA-80C0-177DFA5A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D47C-2482-427D-8A96-82B8543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57B9-524D-4078-9DEE-630FBFDE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872D-BF97-48A4-8BBB-CBD20B5F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3BEB-5AE9-4103-BBC1-31221EE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D318-5FE1-4D02-B272-F89EB6B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441C-7B85-4C47-91E1-B7CE20B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5418-3CD4-46CA-BA21-E1C7357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6018-F46C-4665-B4BB-FA7D19E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C615-D513-4408-8214-3F39B6479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2006    T.Tammet    Programmeerimine: 12  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6EDC4391-CB19-4C16-B297-13E7190D0F1D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C9D1-A41B-4C63-BBCD-783F1EA4B6B5}" type="slidenum">
              <a:rPr b="1" lang="en-GB" sz="14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glish_draughts" TargetMode="External"/><Relationship Id="rId2" Type="http://schemas.openxmlformats.org/officeDocument/2006/relationships/hyperlink" Target="http://en.wikipedia.org/wiki/Checkers" TargetMode="External"/><Relationship Id="rId3" Type="http://schemas.openxmlformats.org/officeDocument/2006/relationships/hyperlink" Target="http://math.hws.edu/javanotes/c8/s5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sellist seisude puud kasutada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1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ldame lihtsalt, 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in tahab teha käiku, mis annab kõige suur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stane tahab teha käiku, mis annab kõige väiks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g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st seisust valib masin käigu, mis on maks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st seisust valib vastane käigu, mis on miin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atame käikude puud sügavuseni N (näiteks N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õige alumistel seisudel arvutame lihtsalt headuse vä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järel “tõstame” headuse numbreid ülespoo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nimax algoritm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3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040" y="5462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ata lisaks linki ja de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 heaks programmi saab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836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da sügavamat puud masin läbi jõuab vaadata, seda täpsemini ta käiku oskab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u läheb kiiresti väga suurek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es ca 30 käiku ühes seis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esel tasemel käik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isel tasemel käike 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lmandal tasemel käike 30*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-ndal tasemel käike 30 astme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iekümnendal  tasemel oleks käike ca 30 astmes 50. See on rohkem, kui elementaarosakesi universumi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4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mbes nii: teadmised ja kiirus ja mängu headus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4948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8080" y="4876920"/>
            <a:ext cx="10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Se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n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ea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6095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Kui suure puu jõuab läbi va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programmi parandad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6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 ole ühte head lahendust. On palju erinevaid nõks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äite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me seisu hindaja paremaks (programmi “targemaks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a siis läheb ta aeglasemaks 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ga jõuame vähem käike läbi vaa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mik nõkse on seotud käikude puu vähendamisega: ei ole vaja kogu puud läbi vaa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5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aiuti vs sügavuti ot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ks võimalu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puu läbi kiht-kih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puu läbi sügavuti, minnes algul vasakul maksimaalse sügavus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listatakse sügavuti otsingu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lu vaja palju vä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ud eelised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6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276720" cy="1714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276720" cy="17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895480"/>
            <a:ext cx="2362320" cy="45720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505320"/>
            <a:ext cx="3276720" cy="60948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23040" y="4724280"/>
            <a:ext cx="689040" cy="3812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89160" y="5334120"/>
            <a:ext cx="460440" cy="6858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399360" y="5562720"/>
            <a:ext cx="79200" cy="5331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523880"/>
            <a:ext cx="1066680" cy="76212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362320"/>
            <a:ext cx="2210040" cy="220968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oodinäiteid: rekursiivne minimax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4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minimax(position p, int d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uct move list[MAXMOVES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,n,bestvalue,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checkwin(p)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p.color==WHITE) return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return 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d==0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evaluation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position.color==WHITE) bestvalue=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bestvalue=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=makemovelist(p,li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n==0) return handlenomove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(i=0;i&lt;n;i++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alue=minimax(p,d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(position.color==WHI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stvalue=max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estvalue=min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best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Üks esimesi universaalseid meetodeid: alpha-bet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98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838080" y="2362320"/>
          <a:ext cx="83059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305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oodinäiteid: rekursiivsed negamax ja alpha-be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NegaMax (pos, dept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alue = -NegaMax(pos, depth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AlphaBeta (pos, depth, alpha, be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&amp;&amp; best &lt; beta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if (best &gt; alpha) alpha =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value = -AlphaBeta(pos, depth-1, -beta, -alpha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8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t lisaks demo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9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ngupuud ja mängude programmeer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sejuhatus viimasesse laboratoorsesse töösse: briti (ameerika) k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8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oteerimise nõks otsingu kiirendamise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96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eerida variandid seisust X enne otsingut ära: alustada tõenäoliselt paremate käikude proovimiseg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urendab tohutult alpha-beta efek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das sorteer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ivne süvenemine. Te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gul täisotsingu sügavuseni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is uue täisotsingu sügavuseni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is uue täisotsingu sügavuseni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 j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kord kasutame eelmise otsingu tulemust sorteerimise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9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uud standardnõksu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1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ller mo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: jätame otsides meelde eriti head käigu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i masinal kui vasta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ovime kõigepealt varasemast meelde jäetud eriti häid kä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iescence sear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: mõnda haru otsitakse sügavam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bastabiilses seisus otsime sügavam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biilses seisus otsime vähem sügav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sime lõpuni kõik vahetused ja löö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ll-Move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mis siis, kui vastane saaks kaks käiku järjest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ovime nii, et vastane saab kaks käiku järj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 on meile OK tulemus, siis see on positiivne f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 on meile halb tulemus, jätame meelde “killer m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20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mõjub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da sügavam puu, seda suurem mõju. Näitek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ikude puu sügavus v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4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pha-Beta: hindab          1,037,209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-B + “killer moves”:           530,587 sei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ikude   puu sügavus seits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       8,100,000,000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pha-Beta: hindab           162,662,568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-B + “killer moves”:           46,455,262 sei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äiendav idee: lõppmängude andmebaasid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hitame hiiglasliku lõppmängu-seisude andmeba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gal lõppmängu-seisul on andmebaasis öeldud täpne “headus” (võit, viik, kao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hitamiseks: kõigepealt ühe nupuga lõppmängud, siis kahe nupuga lõppmängud, siis kolme nupuga lõppmängud j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õigepealt tehti seda 8x8 inglise kabe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Schaeffer, Robert Bla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Lu a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tin Brya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Alberta: http://www.cs.ualberta.ca/~chinoo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õigi seisude andmebaas, k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või vähem nup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kku ül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4,778,882,769,21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ügavad otsingud jõuavad tihti lõppmängu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dmebaasini, kus on juba sees täp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isuhinna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sing seega mõlemast suunas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860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9720" y="3352680"/>
            <a:ext cx="2057400" cy="45720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-5634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aegune seis mängudeg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hendatud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li nuppu ritta, Qub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ne Man’s Morris, Go-M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w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gevalt üle inimmängijat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be (8x8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nju (viis nuppu ritt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llo (Reversi), Scrabble, Backga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ailmameistri tasemel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hvusvaheline kabe (10x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ppmängija taseme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 (9x9), Hiina male, Bridzh, Pok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tööri tasemel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 (19x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t ka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en.wikipedia.org/wiki/Solved_board_g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21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2895480" cy="1909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24160" cy="2390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19840" y="4295880"/>
            <a:ext cx="232416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 briti (ameerika) kabe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i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ers (draugh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eglid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pedia.org/wiki/English_draugh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 üldiselt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Chec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askood kasutamisek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ikus lehel 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th.hws.edu/javanotes/c8/s5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odud apleti osad, v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math.hws.edu/javanotes/source/Checkers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sulikke linke lisaks eelmistel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cs.ualberta.ca/~chinook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22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õtlemis-võistlusmängude programmeeri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s on ülesan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il on lauamäng (male, kabe vms), kus on kaks mängija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mbki tahab võ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me arvutiprogrammi, mis võtab seisu ette ja püüab leida võimalikult hea käigu sellest seisu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9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eidi ajalug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1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ise maailmasõja paiku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an Turing tegi valmis maleprogrammi, aga tal ei olnud arvutit selle täitmiseks. Turing täitis programmi ise: paberi ja pliiatsi 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ngis paar partiid: iga partii võttis hirmus kaua ae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40-1990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d läksid aeglaselt paremaks, arvutid kiiremaks, aga tipp-inim-mängijad olid programmidest kõvasti pare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0-2000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d hakkasid tipp-inim-mängijaid järjepanu või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4, 8x8 inglise kabe maailmam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ep B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7, võitis Garry Kasparovit malemats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STELL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1997, võitis Othello (Reversi) maailmameistrit Takeshi Muraka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egune se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mete mängude (Go, Bridzh, ...) jaoks on inim-mängijad endiselt programmidest hulga pare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9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maleprogrammi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9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me kõigepealt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b se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eb seisu järgi mällu tabeli kõigist võimalikest käikudest selles sei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ei olegi nii väga keeruline 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les keerul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abes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llo (reversi) veel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is nuppu ritta: väga lih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üüd võib programm tabelist juhusliku käigu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 juba mängibki!   Kuigi kehvasti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0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idas programmi veidi paremaks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me eraldi väikese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õtab seisu 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Ütleb umbes, kui hea seis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isu “headus” on number, mille meie programm arvu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uidas öelda “kui hea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hel lihtne: kaotus / võit/ ei kumb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rid:          1         -1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rulisem: “harilik maleseis”.  Kumbalgi pole võitu ega kaot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0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eisu hinda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rulisem olukord: harilik malese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j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meie ja vastase nup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pp annab 10 punkti, vanker 6, 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sio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eelviimasel real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 tsentriväljadel olevad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me kokku, mitmele tsentriväljale masin/inimene tuld an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atame üle kuninga kaitse tugev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 jne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kku saame seisu headuse numbr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ina materjal – inimese materjal + masina positsioon – inimese posits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is edasi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78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üüd on meil kõigi käikude tabel, iga käigu juures arvutame tekkiva seisu headuse numbr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me kõige parema tulemuse (maksimumi numbritest!) andva käig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 hakkab veidi paremini mängima, ag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kka mängib väga kehva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ks? Sest meie seisu headuse hindamise programm on ni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idas headuse hindamist parand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mulikult tuleks vaadata, mis käike vastane võib peale meie käike teha! Ja kuidas meie võime vastata. J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79080"/>
            <a:ext cx="7770960" cy="306720"/>
            <a:chOff x="838080" y="379080"/>
            <a:chExt cx="7770960" cy="306720"/>
          </a:xfrm>
        </p:grpSpPr>
        <p:sp>
          <p:nvSpPr>
            <p:cNvPr id="11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7600" y="37908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õimalike käikude puu trips-traps-trulli näit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858000" cy="557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cp:revision>0</cp:revision>
  <dc:subject/>
  <dc:title> </dc:title>
</cp:coreProperties>
</file>